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B1E-A6BF-45F1-9E4D-5677619C5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6DC-C07A-46B8-A29C-F3429A9C1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38E-E04E-49D2-97D7-FE66D813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54A-E3E5-464B-8014-F997A383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BD2-B4C8-4AEB-8FA6-21B069CF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FCF-B689-467C-B3E8-88577FFA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9FD-5F8F-4FC9-BCF8-3C2E5FA0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BB7-C984-4DE8-8882-0E8260D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A53-0112-40AE-B9B4-090D3CC9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F1D-8B03-4483-B848-FBDFA253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F0B-937D-489A-94A9-D69C01C0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151-48B2-4B95-B89C-8C2A131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1A6-3426-4E5C-9F4D-DBB4DC8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D54-DD5A-440A-A6ED-AB65E4C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69D-A7BD-4B89-959B-BBF2E865A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85800" y="4572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ROJECT NUMBER 4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RS – RISSIK STREET, JOHANNES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OOF REPAIR INVEST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708200" y="1365120"/>
            <a:ext cx="5727600" cy="450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OUND FLOOR – 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 work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utlet servicing – wet services consul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ial Screed where ponding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54" name="Elbow Connector 3"/>
          <p:cNvCxnSpPr/>
          <p:nvPr/>
        </p:nvCxnSpPr>
        <p:spPr>
          <a:xfrm flipV="1">
            <a:off x="3047760" y="2133360"/>
            <a:ext cx="3353400" cy="76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55" name="TextBox 3"/>
          <p:cNvSpPr/>
          <p:nvPr/>
        </p:nvSpPr>
        <p:spPr>
          <a:xfrm>
            <a:off x="5600880" y="2414520"/>
            <a:ext cx="23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Elbow Connector 13"/>
          <p:cNvCxnSpPr/>
          <p:nvPr/>
        </p:nvCxnSpPr>
        <p:spPr>
          <a:xfrm>
            <a:off x="3047760" y="2895120"/>
            <a:ext cx="3391560" cy="1164600"/>
          </a:xfrm>
          <a:prstGeom prst="bentConnector3">
            <a:avLst>
              <a:gd name="adj1" fmla="val 42547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57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685800" y="457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OUND FLOOR – 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on coping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ow maintenance window cill “Uni-Flashing”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62" name="Elbow Connector 6"/>
          <p:cNvCxnSpPr/>
          <p:nvPr/>
        </p:nvCxnSpPr>
        <p:spPr>
          <a:xfrm flipV="1">
            <a:off x="3047760" y="2133360"/>
            <a:ext cx="3353400" cy="76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3" name="Elbow Connector 7"/>
          <p:cNvCxnSpPr/>
          <p:nvPr/>
        </p:nvCxnSpPr>
        <p:spPr>
          <a:xfrm>
            <a:off x="3047760" y="2895120"/>
            <a:ext cx="3391560" cy="1164600"/>
          </a:xfrm>
          <a:prstGeom prst="bentConnector3">
            <a:avLst>
              <a:gd name="adj1" fmla="val 42547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64" name="TextBox 3"/>
          <p:cNvSpPr/>
          <p:nvPr/>
        </p:nvSpPr>
        <p:spPr>
          <a:xfrm>
            <a:off x="5600880" y="2414520"/>
            <a:ext cx="23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INDOW C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5800" y="45720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FLOOR – ROOF TER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on coping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up onto parapet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70" name="Elbow Connector 8"/>
          <p:cNvCxnSpPr/>
          <p:nvPr/>
        </p:nvCxnSpPr>
        <p:spPr>
          <a:xfrm flipV="1">
            <a:off x="1905120" y="2133000"/>
            <a:ext cx="4496400" cy="114372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71" name="Elbow Connector 9"/>
          <p:cNvCxnSpPr/>
          <p:nvPr/>
        </p:nvCxnSpPr>
        <p:spPr>
          <a:xfrm>
            <a:off x="1523520" y="3657600"/>
            <a:ext cx="4915800" cy="40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72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RACKED BRITTLE WATERPROO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VES PEE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FLOOR – ROOF TER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intenance on ou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seals on cr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0151022_101611.jpg"/>
          <p:cNvPicPr/>
          <p:nvPr/>
        </p:nvPicPr>
        <p:blipFill>
          <a:blip r:embed="rId2"/>
          <a:stretch/>
        </p:blipFill>
        <p:spPr>
          <a:xfrm>
            <a:off x="5562720" y="2743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78" name="Elbow Connector 6"/>
          <p:cNvCxnSpPr/>
          <p:nvPr/>
        </p:nvCxnSpPr>
        <p:spPr>
          <a:xfrm flipV="1">
            <a:off x="1600200" y="761400"/>
            <a:ext cx="4953240" cy="1981800"/>
          </a:xfrm>
          <a:prstGeom prst="bentConnector3">
            <a:avLst>
              <a:gd name="adj1" fmla="val 58438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79" name="Elbow Connector 7"/>
          <p:cNvCxnSpPr/>
          <p:nvPr/>
        </p:nvCxnSpPr>
        <p:spPr>
          <a:xfrm>
            <a:off x="1523880" y="3352680"/>
            <a:ext cx="5106240" cy="610560"/>
          </a:xfrm>
          <a:prstGeom prst="bentConnector3">
            <a:avLst>
              <a:gd name="adj1" fmla="val 49996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80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RAINAGE OUT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524560" y="579420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RACKED PARAP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CRETE ROOF AND G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rip and remove loose st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be re-torched and painted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86" name="Elbow Connector 7"/>
          <p:cNvCxnSpPr/>
          <p:nvPr/>
        </p:nvCxnSpPr>
        <p:spPr>
          <a:xfrm flipV="1">
            <a:off x="3200400" y="2066040"/>
            <a:ext cx="2559600" cy="753480"/>
          </a:xfrm>
          <a:prstGeom prst="bentConnector3">
            <a:avLst>
              <a:gd name="adj1" fmla="val 49992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87" name="Elbow Connector 8"/>
          <p:cNvCxnSpPr/>
          <p:nvPr/>
        </p:nvCxnSpPr>
        <p:spPr>
          <a:xfrm>
            <a:off x="3123720" y="2971440"/>
            <a:ext cx="3506040" cy="200556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88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ONE COVERED CONCRETE RO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600880" y="5424480"/>
            <a:ext cx="23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BLOCKED WITH LOOSE 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685800" y="4572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CRETE ROOF PARAPET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al all parapet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ATER SEEPAGE IN PARAPET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543640" y="54100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ATER SEEPAGE IN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96" name="Elbow Connector 8"/>
          <p:cNvCxnSpPr/>
          <p:nvPr/>
        </p:nvCxnSpPr>
        <p:spPr>
          <a:xfrm flipV="1">
            <a:off x="2743200" y="1142280"/>
            <a:ext cx="3201120" cy="289620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97" name="Elbow Connector 9"/>
          <p:cNvCxnSpPr/>
          <p:nvPr/>
        </p:nvCxnSpPr>
        <p:spPr>
          <a:xfrm>
            <a:off x="2743200" y="4190760"/>
            <a:ext cx="4039200" cy="22932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OF SH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roof sheets and check for leaks in gu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lear de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where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0151022_101611.jpg"/>
          <p:cNvPicPr/>
          <p:nvPr/>
        </p:nvPicPr>
        <p:blipFill>
          <a:blip r:embed="rId2"/>
          <a:stretch/>
        </p:blipFill>
        <p:spPr>
          <a:xfrm>
            <a:off x="5562720" y="27432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USTED METAL ROOF SHE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5595840" y="5792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104" name="Elbow Connector 8"/>
          <p:cNvCxnSpPr/>
          <p:nvPr/>
        </p:nvCxnSpPr>
        <p:spPr>
          <a:xfrm flipV="1">
            <a:off x="3048120" y="1751760"/>
            <a:ext cx="3048480" cy="160092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05" name="Elbow Connector 9"/>
          <p:cNvCxnSpPr/>
          <p:nvPr/>
        </p:nvCxnSpPr>
        <p:spPr>
          <a:xfrm>
            <a:off x="3155760" y="3533400"/>
            <a:ext cx="3626280" cy="8866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OF GUTTERS AND FA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all fa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ix onto and mak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110" name="Elbow Connector 6"/>
          <p:cNvCxnSpPr/>
          <p:nvPr/>
        </p:nvCxnSpPr>
        <p:spPr>
          <a:xfrm flipV="1">
            <a:off x="3047760" y="1218960"/>
            <a:ext cx="2972520" cy="182952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11" name="Elbow Connector 7"/>
          <p:cNvCxnSpPr/>
          <p:nvPr/>
        </p:nvCxnSpPr>
        <p:spPr>
          <a:xfrm>
            <a:off x="3048120" y="3048120"/>
            <a:ext cx="3124800" cy="30528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12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AND FAS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543640" y="54100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AND FAS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02:44:30Z</dcterms:created>
  <dc:creator>Pembe</dc:creator>
  <dc:description/>
  <dc:language>en-US</dc:language>
  <cp:lastModifiedBy>Vuyokazi Ntshinga</cp:lastModifiedBy>
  <dcterms:modified xsi:type="dcterms:W3CDTF">2017-11-10T08:45:45Z</dcterms:modified>
  <cp:revision>15</cp:revision>
  <dc:subject/>
  <dc:title>Slide 1</dc:title>
</cp:coreProperties>
</file>